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2BE-1678-42BC-9310-871AC4C9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EAD-C264-4EE7-AAED-0884E1CE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55C-EE23-4DE3-A062-26355517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ACC-26F9-4ADD-B0E1-0A78870B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F8B9-AD61-4D8A-B025-EC666BA3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CD13-D8B5-4289-A39B-4CEEE6A3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CB2F-2CF9-44D2-A7CF-83ED2FE5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1BC2-8620-4627-AD0D-A09A5388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7A7E-1782-4AE3-8E19-8BF0C3D6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DD1C-07C3-4BAF-9BE8-367D503C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68CF-2F64-4B5F-882B-843C87C7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B29-2B01-41E3-865A-9C1B881F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3242-D8FF-474A-AAC8-46FD7CF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CE80-B6DB-4B04-B8A1-CD2D2305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8ADD-BF4C-42BA-82B5-696540F1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F874-8196-4BA8-B67B-207D19A0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4E0B-094F-46E8-9615-C217BE82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B7B0-93A8-4B82-ACAE-B70F1AEF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928A-9F28-4F23-87D5-3A51EB3E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F2EB1-06C0-4FEB-B111-FEE14F9D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ABC3F-0E0D-4285-B83A-6D513344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C149-B2ED-4BA7-8095-F6FBE158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957-23AF-4828-AA50-D215E6F3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594C-6D43-4610-A24F-5B2F575B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AAA4-119E-4546-A888-4D9B3899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51BC7-3E26-4B9E-8FA5-2341378C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35D9-A317-4D42-9C97-9715153E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2F0A-8C84-4702-BE4D-69BFD98A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7A25D-9DC4-4678-BA70-EA2E58CB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940F-D431-4A5A-AB3F-A43E04D2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1BA0-ED2E-434D-B156-13859365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32230-0F59-4C17-B36E-CC425C66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0073-239B-4734-B391-D7F8F9F8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787-B224-49E0-B3C3-BC1F6AAD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AF242-9057-451A-829E-D2CDCB5D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6E7A5-6CF2-4B4A-8FB4-39FBDF87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53930-A872-4350-AEB4-3BA88F94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FCAB-7952-4359-8F41-862CC5C7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CC18-423F-4192-B2A2-CCBF0C98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4DCC-67E6-4EB4-9A9A-2442FB58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0ABD7-6C4D-4FC1-BAC6-95101C98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301A1-DC88-4432-B71F-1450D2F3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C019-2D69-415F-AC41-61FFF1D3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39CD-0411-4AE2-871A-F7545C6E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337-4711-4A4F-ACEF-181D49F6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41CCA-7E4A-43DE-9823-80490F99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4B3B-FE2D-42F1-8DCA-841D04D3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183CF-7320-4E50-92C3-635DAA66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F3970-EB82-4B14-A069-BCA83D8A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BD9C3-7165-4EA1-8CEF-F8BBB3EE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70E6B-0BC6-4E23-8EFE-E1D04FF8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EF4DD-A8B0-44E7-A76A-D4B432BF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8E00-FCC6-4387-A80A-F03E07B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D0E59-4EB6-4117-B747-994263D0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D4FE-6FF5-49A6-BDB1-1A09512C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379-1EF3-4854-B831-5C71AF19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FA1BD-0BC8-405D-BB85-81B67870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C1A24-2EDC-4545-81D7-3A270B14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0C6C2-E461-4A0C-A796-5D115A42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D8FB7-E17E-406F-BFB5-EBC9017F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16817-10AF-41CC-ABAF-1C5C1060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5DF18-2661-463F-9F85-80693CEA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FCC00-D236-4E92-BB21-AACDE1C8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B6C6B-3442-4E06-A94E-07AAF46E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A6689-2E85-472B-B649-9D67E524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03912-EFF1-4A2F-B4E0-34697140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A7D-9A2C-4797-8E6B-DE8A2E46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BFB6E-CC6C-4443-A3E7-5B2DDA47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4F35C-295C-4640-A932-225EA60D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11C63-8041-41A6-A8F7-7B26F072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E0B8C-2A17-4E56-89AA-DF5C5017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AB934-591E-4F08-B7F6-6BF2F2AE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3BC9F-9199-4A14-A1FB-7D342A2B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FE777-0DCE-4A73-BED6-E1DDA199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FB3AF-DAD0-4048-906A-A2B6D739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7C9F9-9BC0-49DA-88CD-96881395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90254-607F-442A-85C4-76DF0580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648-4BA2-4B72-80CD-7B4E7ADD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9B011-7140-47E4-A61E-9850A8C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A8A49-2F2A-4FC1-8E88-2A758715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57DDE-66A8-4600-B168-01A76E03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6A109-6C31-41E5-9AE9-13650C63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35C9E-18BB-4562-A24C-D200F91A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60F-AD75-42E2-8C37-6BF0B85F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D5AF-CDAC-411F-A66F-BA08F322BA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7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B334-3B4C-4F2A-B2A4-A03F0AE12C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BCBA-352E-4F89-83E1-3CDA8EA8E27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90D6-DCDB-43D9-B92D-0AE743FB5B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A4BD-BC97-4B75-B3DE-E8AD9C7CE7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BB73-C0EF-4DD8-92AA-C335DA4073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387C-B535-4D90-BC50-790F700DE82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rbel"/>
              </a:rPr>
              <a:t>Презентация по физической культур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85560" y="3857760"/>
            <a:ext cx="7553160" cy="1357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укушкина Ольга, 4б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Средняя общеобразовательная школа № 10 г. Йошкар-Олы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4714920" y="6143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142640" y="285840"/>
            <a:ext cx="7658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оревн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оревнования по футболу, как и в любом другом виде спорта — важная составляющая игры. Соревнование организуется федерацией, для каждого турнира составляется регламент, в котором обычно определяют состав участников, схему турнира, правила определения победителя при равенстве очков и какие-то отклонения от правил, например количество замен. Соревнования делятся на внутренние и международные, которые в свою очередь разделяются на клубные и национальных сборны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Рисунок 3" descr="1213786688_26631.jpg"/>
          <p:cNvPicPr/>
          <p:nvPr/>
        </p:nvPicPr>
        <p:blipFill>
          <a:blip r:embed="rId1"/>
          <a:stretch/>
        </p:blipFill>
        <p:spPr>
          <a:xfrm>
            <a:off x="2786040" y="2786040"/>
            <a:ext cx="4378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1360" y="285840"/>
            <a:ext cx="77295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Разновидности футбо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множество разновидностей футбола, в основном с меньшим количеством игроков — в том числе пляжный футбол (играется на песке), футзал (AMF) и футзал (FIFA) (мини-футбол) (играются в зале на специальном покрытии), дворовый футбол (играется на любом покрытии на полях любого размера любым количеством людей), болотный футбол (играется на болоте), футбольный фристайл (заключается в исполнении всевозможных финтов и трюков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скольку популярность футбола очень высока существует много игр, имитирующих футбо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Рисунок 3" descr="1213786684_16606.jpg"/>
          <p:cNvPicPr/>
          <p:nvPr/>
        </p:nvPicPr>
        <p:blipFill>
          <a:blip r:embed="rId1"/>
          <a:stretch/>
        </p:blipFill>
        <p:spPr>
          <a:xfrm>
            <a:off x="3786120" y="3071880"/>
            <a:ext cx="24955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3" descr=""/>
          <p:cNvPicPr/>
          <p:nvPr/>
        </p:nvPicPr>
        <p:blipFill>
          <a:blip r:embed="rId1"/>
          <a:stretch/>
        </p:blipFill>
        <p:spPr>
          <a:xfrm>
            <a:off x="2494080" y="30240"/>
            <a:ext cx="4632120" cy="1463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4904923b_3.jpg"/>
          <p:cNvPicPr/>
          <p:nvPr/>
        </p:nvPicPr>
        <p:blipFill>
          <a:blip r:embed="rId2"/>
          <a:stretch/>
        </p:blipFill>
        <p:spPr>
          <a:xfrm>
            <a:off x="1643040" y="1857240"/>
            <a:ext cx="6875640" cy="3929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feb80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тория футбо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28480" y="1447920"/>
            <a:ext cx="7505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гры, похожие на современный футбол, существовали достаточно давно у разных народов, однако первые записанные правила датированы 1848 годом. Датой рождения футбола считается 1863 год, когда была организована первая федерация футбола и записаны правила,  похожие на современны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object_45.1214081933.jpg"/>
          <p:cNvPicPr/>
          <p:nvPr/>
        </p:nvPicPr>
        <p:blipFill>
          <a:blip r:embed="rId1"/>
          <a:stretch/>
        </p:blipFill>
        <p:spPr>
          <a:xfrm>
            <a:off x="2000160" y="2714760"/>
            <a:ext cx="2562480" cy="37893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1213836825_56664.jpg"/>
          <p:cNvPicPr/>
          <p:nvPr/>
        </p:nvPicPr>
        <p:blipFill>
          <a:blip r:embed="rId2"/>
          <a:stretch/>
        </p:blipFill>
        <p:spPr>
          <a:xfrm>
            <a:off x="5764320" y="2714760"/>
            <a:ext cx="25938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920" y="500040"/>
            <a:ext cx="7400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гровой процес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360" y="1599840"/>
            <a:ext cx="76150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тдельная футбольная игра называется — матч, который в свою очередь состоит из двух таймов по 45 минут. Пауза между первым и вторым таймами составляет 15 минут, в течение которой команды отдыхают, а по её окончании меняются ворот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104901.jpg"/>
          <p:cNvPicPr/>
          <p:nvPr/>
        </p:nvPicPr>
        <p:blipFill>
          <a:blip r:embed="rId1"/>
          <a:stretch/>
        </p:blipFill>
        <p:spPr>
          <a:xfrm>
            <a:off x="2214720" y="3214800"/>
            <a:ext cx="4572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3920" y="142920"/>
            <a:ext cx="7472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В футбол играют на поле с травяным или синтетическим покрытием. В игре участвуют две команды: в каждой от 7 до 11 человек. Один человек в команде (вратарь) может играть руками в штрафной площади у своих ворот, его основной задачей является защита ворот. Остальные игроки также имеют свои задачи и позиции на поле. Защитники располагаются в основном на своей половине поля, их задача — противодействовать нападающим игрокам противоположной команды. Полузащитники действуют в середине поля, их роль — помогать защитникам или нападающим в зависимости от игровой ситуации. Нападающие располагаются, преимущественно на половине поля соперника, основная задача — забивать гол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3" descr="4904923b_3.jpg"/>
          <p:cNvPicPr/>
          <p:nvPr/>
        </p:nvPicPr>
        <p:blipFill>
          <a:blip r:embed="rId1"/>
          <a:stretch/>
        </p:blipFill>
        <p:spPr>
          <a:xfrm>
            <a:off x="2214720" y="3071880"/>
            <a:ext cx="60721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71720" y="213840"/>
            <a:ext cx="7858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ль игры 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случае, если в течение двух таймов команды забили одинаковое количество голов, то или фиксируется ничья или победитель выявляется согласно установленному регламенту матча. В этом случае может быть назначено дополнительное время - ещё два тайма по 15 минут каждый. 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3" descr="1213836840_40613.jpg"/>
          <p:cNvPicPr/>
          <p:nvPr/>
        </p:nvPicPr>
        <p:blipFill>
          <a:blip r:embed="rId1"/>
          <a:stretch/>
        </p:blipFill>
        <p:spPr>
          <a:xfrm>
            <a:off x="2500200" y="3000240"/>
            <a:ext cx="500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00080" y="213840"/>
            <a:ext cx="76867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 время в футболе существовало правило, по которому победителем объявлялась команда, первой забившая гол (правило «золотого гола») или выигрывавшая по окончании любого из дополнительных таймов (правило «серебряного гола»). В настоящий момент дополнительное время либо не играется вовсе, либо играется в полном объёме (2 тайма по 15 минут). Если в течение дополнительного времени победителя выявить не удаётся, проводится серия послематчевых пенальти, не являющихся частью матча. Серия ведётся до тех пор, пока не будет выявлен победител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3" descr="1214087928_76361.jpg"/>
          <p:cNvPicPr/>
          <p:nvPr/>
        </p:nvPicPr>
        <p:blipFill>
          <a:blip r:embed="rId1"/>
          <a:stretch/>
        </p:blipFill>
        <p:spPr>
          <a:xfrm>
            <a:off x="3429000" y="2571840"/>
            <a:ext cx="300024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43000" y="214200"/>
            <a:ext cx="7515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ряд организаций, осуществляющих контроль, управление и распространение футбола. Основной является ФИФА, расположенная в Цюрихе, Швейцария. Она занимается организацией международных соревнований мирового масштаба, в частности чемпионата мира. Далее идут континентальные организации и организации по странам, областям и городам и т. 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Рисунок 3" descr="1214305948_03297.jpg"/>
          <p:cNvPicPr/>
          <p:nvPr/>
        </p:nvPicPr>
        <p:blipFill>
          <a:blip r:embed="rId1"/>
          <a:stretch/>
        </p:blipFill>
        <p:spPr>
          <a:xfrm>
            <a:off x="3429000" y="2786040"/>
            <a:ext cx="28684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285840"/>
            <a:ext cx="78008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Клуб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Футбольный клуб 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Рисунок 3" descr="1214088103_23001.jpg"/>
          <p:cNvPicPr/>
          <p:nvPr/>
        </p:nvPicPr>
        <p:blipFill>
          <a:blip r:embed="rId1"/>
          <a:stretch/>
        </p:blipFill>
        <p:spPr>
          <a:xfrm>
            <a:off x="1928880" y="2714760"/>
            <a:ext cx="4876560" cy="387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7:45:03Z</dcterms:created>
  <dc:creator>Admin</dc:creator>
  <dc:description/>
  <dc:language>en-US</dc:language>
  <cp:lastModifiedBy>Ирина Петровна</cp:lastModifiedBy>
  <dcterms:modified xsi:type="dcterms:W3CDTF">2009-08-17T15:14:05Z</dcterms:modified>
  <cp:revision>9</cp:revision>
  <dc:subject/>
  <dc:title>Слайд 1</dc:title>
</cp:coreProperties>
</file>